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49C-832A-422E-BE72-295BC856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471-DCF2-4C3C-882A-C3B4DEBB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73A-5E22-4F96-B517-CE3E510C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A16-2A18-4398-9EF4-FE0D35FA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078C-11D8-4F12-A936-BA4A2E4C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11E-6EA0-446B-B562-27C39C2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219-5FCD-4D17-A8F3-C52F023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8D6F-3F6D-43DB-A649-6A8879B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DD01-1D77-4BB4-915E-AF0308F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68AF-28DF-468C-8161-28FA454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EC6B-2059-4712-9C45-6F2FD6B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279-6099-4445-A793-1E3D74C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A758-D0F7-495E-99CB-DB1D090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2A3-6E25-4127-BDF2-37E471A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A23E-2385-4AA3-8616-249ED3D9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7CBF-6707-4B25-818E-2D42449B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DF8-BA31-477D-8CDC-A1002FB1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0D6-1AC1-48B0-961D-D0E2A1F6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081-687A-48F1-9C27-DC405772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FAE-66FF-4557-BE4C-3C204EE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A03-46A7-42FF-ADE6-B8910EF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B59-24C7-435B-80EF-56948D1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C6B-A02E-4885-A0CF-837922E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D46-7320-4606-8D92-35D2328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FC6-A67B-4A6E-97AA-D7BFC849C2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D61-AD7B-4EEF-B504-8A36BE8E19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Addressing Uncertainty, Addressing Audience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iguity, Unfamiliarity and the Approach to Academic Wri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hetoric: reality interpreted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Reality isn’t always cut-and-dried or “self-evident.”  As rhetors, then, your job is to take a stance on issues which are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controversial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arguable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—they may be interpreted in at least two ways, and you must make a compelling, plausible case for your 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386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hetoric, reality and </a:t>
            </a:r>
            <a:r>
              <a:rPr b="0" i="1" lang="en-US" sz="4400" spc="-1" strike="noStrike">
                <a:solidFill>
                  <a:srgbClr val="999900"/>
                </a:solidFill>
                <a:latin typeface="Garamond"/>
              </a:rPr>
              <a:t>dissoi logo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esis: it’s an old h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dark line is a mou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re is a bag under the left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A large nose is in the cen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Antithesis: it’s a young wo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dark line is a cho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Her left ear is show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Her left jaw line is visib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Either view is a belief, the result of persuasion (</a:t>
            </a:r>
            <a:r>
              <a:rPr b="1" i="1" lang="en-US" sz="2400" spc="-1" strike="noStrike">
                <a:solidFill>
                  <a:srgbClr val="000000"/>
                </a:solidFill>
                <a:latin typeface="Goudy Old Style"/>
              </a:rPr>
              <a:t>pistis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xtual/Rhetorical Aware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raison d’être*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f this class is to make you more textually and rhetorically aware, to make you self-conscious manipulators of language and bearers of argument about uncertain issu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language of this course is designed to give you a meta-language—a language for talking about language—and so give you a critical/analytical view of discourse; the terms you learn are the raw material for your rhetorical meta-cogn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Every comment you receive on your papers is geared toward one goal: making you more aware of what (persuasive) effect your language choices have on an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unfamiliar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(and not necessarily converted) audie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rhetorically effective (in any context), you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be able to envision your words through the eyes of your aud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ith that imagined or actual audience in mind, cast your thoughts into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*Cool French term, n’est pas?  It means, “reason for being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“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ve” away from the “modes”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e so-called “modes” of dis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Expository (process, compare/contrast, defini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arr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sua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Descrip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o meet the needs of an unfamiliar audience, many of these “modes” will need to be turned into “mov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st, if not all, “modes” are present, in varying degrees, in different examples of discourse (texts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nk less in terms of rhetorical “modes” and more in terms of rhetorical “mov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*“Texts” means both spoken and written utter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Rights” of the unfamiliar academic audienc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given new 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provided with some sense of “where” the paper or essay “is going”—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to know the rhetor’s purpos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“brought up to speed”—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to be apprised of </a:t>
            </a:r>
            <a:r>
              <a:rPr b="1" i="1" lang="en-US" sz="2000" spc="-1" strike="noStrike">
                <a:solidFill>
                  <a:srgbClr val="000000"/>
                </a:solidFill>
                <a:latin typeface="Goudy Old Style"/>
              </a:rPr>
              <a:t>relevant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 background information that isn’t “common knowledge” but which is nonetheless necessary for processing the argumen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Relevant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Descriptions of persons, places, things not widely known but which the rhetor chooses to bring 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ontexts for quotations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guided through unfamiliar terr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Paper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Metadiscou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oudy Old Style"/>
              </a:rPr>
              <a:t>*Your audience may not agree with your thesis, but he/she must at least know </a:t>
            </a:r>
            <a:r>
              <a:rPr b="0" i="1" lang="en-US" sz="1400" spc="-1" strike="noStrike">
                <a:solidFill>
                  <a:srgbClr val="000000"/>
                </a:solidFill>
                <a:latin typeface="Goudy Old Style"/>
              </a:rPr>
              <a:t>why</a:t>
            </a:r>
            <a:r>
              <a:rPr b="0" lang="en-US" sz="1400" spc="-1" strike="noStrike">
                <a:solidFill>
                  <a:srgbClr val="000000"/>
                </a:solidFill>
                <a:latin typeface="Goudy Old Style"/>
              </a:rPr>
              <a:t> you take the stance you 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: The two </a:t>
            </a:r>
            <a:r>
              <a:rPr b="0" i="1" lang="en-US" sz="4400" spc="-1" strike="noStrike">
                <a:solidFill>
                  <a:srgbClr val="999900"/>
                </a:solidFill>
                <a:latin typeface="Garamond"/>
              </a:rPr>
              <a:t>Un-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eality allows us few, if any, objective certain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Plausible argument is the practical substitute for absolute certain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nterpretation builds on or overthrows interpre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Unfamilia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No audience has exhaustive knowledge of a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udiences are willing to be persuaded of other viewpoints given adequate reasons and new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udiences need and demand to have questions answe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ddendum: For the skeptical of the radically skeptic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Can’t accept uncertain reality?  Certainly you can accept, then, that human knowledge is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Kenneth Burke on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terministic screens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—how terms “screen” out realit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en if any given terminology is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reflection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of reality, by its very nature as a terminology it must be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of reality; and to this extent it must function also as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deflection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f re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28:26Z</dcterms:created>
  <dc:creator>csclab</dc:creator>
  <dc:description/>
  <dc:language>en-US</dc:language>
  <cp:lastModifiedBy>csclab</cp:lastModifiedBy>
  <dcterms:modified xsi:type="dcterms:W3CDTF">2009-08-31T14:38:20Z</dcterms:modified>
  <cp:revision>47</cp:revision>
  <dc:subject/>
  <dc:title>A Word on Conclusions</dc:title>
</cp:coreProperties>
</file>